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B1F-052F-4F87-BC3E-21632D6F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F36-7254-4BB5-8677-AF5CB925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994-08B0-4836-8DFC-EC2B10D5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210-0FE7-4792-AE29-63500E84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346-88F2-46C3-B880-D095FDAC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67D-80BA-46FF-A4B6-08706525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A0D-52DD-4717-9681-D2206D81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C67-689D-4197-85A7-0ED11AD3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058-CC6E-4831-8058-34B5E90C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7B2-E76E-444A-977D-191774A8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485-8C95-4393-840C-4302EE2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68E-F5DA-4C54-9523-C779C01F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CF4C-9AD0-42B1-B182-1909D27C9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0:05:39Z</dcterms:created>
  <dc:creator>Authorized User</dc:creator>
  <dc:description/>
  <dc:language>en-US</dc:language>
  <cp:lastModifiedBy>Authorized User</cp:lastModifiedBy>
  <dcterms:modified xsi:type="dcterms:W3CDTF">2009-01-12T00:06:06Z</dcterms:modified>
  <cp:revision>1</cp:revision>
  <dc:subject/>
  <dc:title>Slide 1</dc:title>
</cp:coreProperties>
</file>