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A430-5197-4F0E-B773-AE3EE771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943F-E1AC-43B2-96CF-7346B2C7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94FA-BCED-4405-97CD-D2067BFD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C6A0-F3A2-4309-9F75-58F9B9ED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545-CF91-4E58-95A8-27BA7887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BB6D-CBDD-432A-A7A2-6B78024E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3DC-07BE-414B-B9F0-8ABFA5C8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3E9-5C0D-4131-9591-C7650DE7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5183-E322-4AD9-9135-4962EDE4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4ABF-5048-4493-A41A-B2A283D3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50CF-6C93-4F31-B963-0B529035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F354-D52E-4119-9D02-D0CB68B8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4BB8-ED8F-4E04-98C8-BEEE2B878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7080" y="254160"/>
            <a:ext cx="88898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7080" y="254160"/>
            <a:ext cx="88898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7080" y="254160"/>
            <a:ext cx="88898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7080" y="254160"/>
            <a:ext cx="88898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7080" y="254160"/>
            <a:ext cx="88898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7080" y="254160"/>
            <a:ext cx="88898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7080" y="254160"/>
            <a:ext cx="88898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7080" y="254160"/>
            <a:ext cx="88898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7080" y="254160"/>
            <a:ext cx="88898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254160"/>
            <a:ext cx="88898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7080" y="254160"/>
            <a:ext cx="88898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7080" y="254160"/>
            <a:ext cx="88898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1T22:26:35Z</dcterms:created>
  <dc:creator>Ryan Crow</dc:creator>
  <dc:description/>
  <dc:language>en-US</dc:language>
  <cp:lastModifiedBy>kek1</cp:lastModifiedBy>
  <dcterms:modified xsi:type="dcterms:W3CDTF">2008-07-16T02:24:39Z</dcterms:modified>
  <cp:revision>2</cp:revision>
  <dc:subject/>
  <dc:title>Slide 1</dc:title>
</cp:coreProperties>
</file>